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266C5-C500-4320-9FE6-3083098D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01298-B078-4FD2-9C81-B16A645C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BEF27-3F70-40B1-87C8-928DE6B3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BE3BF-2AC3-448C-9F96-181A238E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1D17E-FCC8-4DA4-930C-327A847C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A9D33-F66C-417F-B1DF-0E693003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FF00D-B612-406F-A73B-14106FC7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C4994-704E-48DB-9466-038B01FB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3D0D9-1ADC-4E1A-9FA1-4E720A98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DA548-48FC-47DC-9920-8A6C3C4C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D9DF0-ABBC-48DC-88CC-E8AD03FE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7D64A-9C17-4D66-9CF0-145E03F8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9C581-E90D-4403-8013-0D9F2A7D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4D760-2F82-4BCC-87AF-B77DAE5B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47710-A332-4E8A-98BF-4E373CD9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7F693-5EFE-44A8-9F62-4D4BB83B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A4C2A-BF32-4363-9590-BDE7F210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7DFFE-9ECB-4CD8-B76C-589796FA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B12FD-AB97-4D33-A6D1-13A129A2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5593A-5128-4F8F-AE2F-881AAF22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73719-4075-42E4-B9B1-A169ECCB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F59-C6C1-421C-B042-AFA87DC5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334A-DD16-4595-96C7-8E2B800D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FA47-EB36-42A5-9EDD-4F9F6757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6A99-56BD-432F-B7A0-D8468FDC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1B6-1269-43F9-82CA-1FB60008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433D-1EED-497C-AE9E-656805EC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E76-4151-4AF1-BF51-601255D0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8383-51FA-4E3B-B137-67E12255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5773-D651-464D-9AB9-FEB1D677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07B8-8BD8-4B33-A7D1-3333097F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1E67-B6D4-4918-95AC-10C91263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311-5955-4CFE-90F3-BD6A228A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425B-2342-47DF-BDA3-D399FCDF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0ABD-D233-4A7B-B7F9-8AB5BA78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5B20-E741-4CB1-B986-F0793736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FE7C-17A3-47BD-921C-7F52D53B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16EF-85F7-4A1D-A497-1474F98F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FC87-5543-47F4-B34F-78C243C0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8DC5-5381-4D53-BE16-059A3C4B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C4D4-7A8A-407B-A35E-366EF520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01D7-C7A7-4BF8-995D-4436B2B9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9304-9496-415C-AE1C-AA517A7E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736F-6F88-45CC-B7FC-F5039358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9502-ADD9-41AF-8DF6-D2B40DB9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93C40-25E4-4FC9-9DEE-31C5FF1F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A9619-CADE-486D-A845-3A302AC1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7BE6C-F2EE-4BB5-B652-022F0D17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3523-6188-403E-BF8C-712A7AD2BCEC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EA96-09E7-4507-B87C-714317420E4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ABC2-12F8-457F-AC48-C1F5D0F966F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1304-1954-4ED1-B936-02E668D18A1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itle 1"/>
          <p:cNvSpPr/>
          <p:nvPr/>
        </p:nvSpPr>
        <p:spPr>
          <a:xfrm>
            <a:off x="76212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itle 1"/>
          <p:cNvSpPr/>
          <p:nvPr/>
        </p:nvSpPr>
        <p:spPr>
          <a:xfrm>
            <a:off x="38160" y="1492200"/>
            <a:ext cx="91058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vestock corralling, planting density and N fertilizer rate effect on soil quality, weed dynamics and maize yield in Northern Gha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Content Placeholder 2"/>
          <p:cNvSpPr/>
          <p:nvPr/>
        </p:nvSpPr>
        <p:spPr>
          <a:xfrm>
            <a:off x="1519200" y="5516640"/>
            <a:ext cx="5877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bdul Rahman Nurud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8928000" y="69228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BCE1-3069-4D42-8653-B378320C4658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itle 1"/>
          <p:cNvSpPr/>
          <p:nvPr/>
        </p:nvSpPr>
        <p:spPr>
          <a:xfrm>
            <a:off x="0" y="6367320"/>
            <a:ext cx="8317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2: Manure and soil sampling from SDSG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8628120" y="638172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4272-03E7-4624-862A-C270BCA938C0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"/>
          <p:cNvSpPr/>
          <p:nvPr/>
        </p:nvSpPr>
        <p:spPr>
          <a:xfrm>
            <a:off x="6875640" y="-100080"/>
            <a:ext cx="2268360" cy="585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thworm 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k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is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"/>
          <p:cNvSpPr/>
          <p:nvPr/>
        </p:nvSpPr>
        <p:spPr>
          <a:xfrm>
            <a:off x="15840" y="4276800"/>
            <a:ext cx="227808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phe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3"/>
          <p:cNvSpPr/>
          <p:nvPr/>
        </p:nvSpPr>
        <p:spPr>
          <a:xfrm>
            <a:off x="8710560" y="0"/>
            <a:ext cx="433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4E25-12B9-4060-B304-DC538952ED18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684360" y="166680"/>
            <a:ext cx="7886520" cy="4581360"/>
          </a:xfrm>
          <a:prstGeom prst="rect">
            <a:avLst/>
          </a:prstGeom>
          <a:ln w="0">
            <a:noFill/>
          </a:ln>
        </p:spPr>
      </p:pic>
      <p:sp>
        <p:nvSpPr>
          <p:cNvPr id="430" name="TextBox 3"/>
          <p:cNvSpPr/>
          <p:nvPr/>
        </p:nvSpPr>
        <p:spPr>
          <a:xfrm>
            <a:off x="6480" y="6454800"/>
            <a:ext cx="90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g. 1.  Soil quality index triangle indicating sub-indices of quality index (Kang et al., 200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TextBox 1" descr=""/>
          <p:cNvPicPr/>
          <p:nvPr/>
        </p:nvPicPr>
        <p:blipFill>
          <a:blip r:embed="rId2"/>
          <a:stretch/>
        </p:blipFill>
        <p:spPr>
          <a:xfrm>
            <a:off x="109440" y="4761000"/>
            <a:ext cx="899172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itle 1"/>
          <p:cNvSpPr/>
          <p:nvPr/>
        </p:nvSpPr>
        <p:spPr>
          <a:xfrm>
            <a:off x="0" y="6381720"/>
            <a:ext cx="8381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hoto 3: Female farmers preference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8639280" y="6361200"/>
            <a:ext cx="5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3ABE-F2A0-4F0F-9C47-38F02B6C9279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" descr=""/>
          <p:cNvPicPr/>
          <p:nvPr/>
        </p:nvPicPr>
        <p:blipFill>
          <a:blip r:embed="rId1"/>
          <a:stretch/>
        </p:blipFill>
        <p:spPr>
          <a:xfrm>
            <a:off x="-9360" y="-95400"/>
            <a:ext cx="9210600" cy="654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itle 1"/>
          <p:cNvSpPr/>
          <p:nvPr/>
        </p:nvSpPr>
        <p:spPr>
          <a:xfrm>
            <a:off x="0" y="6308640"/>
            <a:ext cx="9144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hoto 4: Female farmers preference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4"/>
          <p:cNvSpPr/>
          <p:nvPr/>
        </p:nvSpPr>
        <p:spPr>
          <a:xfrm>
            <a:off x="8616960" y="637236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363A-C1FF-42B3-96F6-3A7014F99783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itle 1"/>
          <p:cNvSpPr/>
          <p:nvPr/>
        </p:nvSpPr>
        <p:spPr>
          <a:xfrm>
            <a:off x="-33480" y="19652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1. Manure chem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8632800" y="765000"/>
            <a:ext cx="47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D5D8-D6ED-4D00-B511-9AEB8B8C09F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3"/>
          <p:cNvSpPr/>
          <p:nvPr/>
        </p:nvSpPr>
        <p:spPr>
          <a:xfrm>
            <a:off x="333360" y="108756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and discu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93600" y="2708280"/>
          <a:ext cx="8975880" cy="3897360"/>
        </p:xfrm>
        <a:graphic>
          <a:graphicData uri="http://schemas.openxmlformats.org/drawingml/2006/table">
            <a:tbl>
              <a:tblPr/>
              <a:tblGrid>
                <a:gridCol w="1351080"/>
                <a:gridCol w="1305000"/>
                <a:gridCol w="1014120"/>
                <a:gridCol w="1013040"/>
                <a:gridCol w="1014480"/>
                <a:gridCol w="1209600"/>
                <a:gridCol w="1012680"/>
                <a:gridCol w="281160"/>
                <a:gridCol w="774720"/>
              </a:tblGrid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yphe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gn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itle 1"/>
          <p:cNvSpPr/>
          <p:nvPr/>
        </p:nvSpPr>
        <p:spPr>
          <a:xfrm>
            <a:off x="-20520" y="15080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2. Soil biological properties as affected by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8645400" y="74448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6A96-0078-4C89-96AB-7AE037624CC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41400" y="2084400"/>
          <a:ext cx="9082080" cy="4460760"/>
        </p:xfrm>
        <a:graphic>
          <a:graphicData uri="http://schemas.openxmlformats.org/drawingml/2006/table">
            <a:tbl>
              <a:tblPr/>
              <a:tblGrid>
                <a:gridCol w="1806120"/>
                <a:gridCol w="963000"/>
                <a:gridCol w="1078560"/>
                <a:gridCol w="1080000"/>
                <a:gridCol w="647280"/>
                <a:gridCol w="862920"/>
                <a:gridCol w="162000"/>
                <a:gridCol w="1430640"/>
                <a:gridCol w="1051560"/>
              </a:tblGrid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 (0.25 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 (0.9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5 (1.2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7 (1.3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 (0.25 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8 (0.9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 (1.2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2 (1.3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itle 1"/>
          <p:cNvSpPr/>
          <p:nvPr/>
        </p:nvSpPr>
        <p:spPr>
          <a:xfrm>
            <a:off x="108000" y="11858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3. Soil chemical properties as affected by SDS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8637480" y="72864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3A0A-BD88-496A-89B1-AA4006A86CC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0" y="1700280"/>
          <a:ext cx="9082080" cy="5048280"/>
        </p:xfrm>
        <a:graphic>
          <a:graphicData uri="http://schemas.openxmlformats.org/drawingml/2006/table">
            <a:tbl>
              <a:tblPr/>
              <a:tblGrid>
                <a:gridCol w="2624400"/>
                <a:gridCol w="576000"/>
                <a:gridCol w="576000"/>
                <a:gridCol w="862560"/>
                <a:gridCol w="648720"/>
                <a:gridCol w="862920"/>
                <a:gridCol w="167040"/>
                <a:gridCol w="1570320"/>
                <a:gridCol w="1194120"/>
              </a:tblGrid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 (cmol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 N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 (cmol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itle 1"/>
          <p:cNvSpPr/>
          <p:nvPr/>
        </p:nvSpPr>
        <p:spPr>
          <a:xfrm>
            <a:off x="108000" y="11858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4. Soil physical properties as affected by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8594640" y="76356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BBCF-9BDE-4DD0-95AE-7665024A6298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76320" y="1762200"/>
          <a:ext cx="9005760" cy="4906800"/>
        </p:xfrm>
        <a:graphic>
          <a:graphicData uri="http://schemas.openxmlformats.org/drawingml/2006/table">
            <a:tbl>
              <a:tblPr/>
              <a:tblGrid>
                <a:gridCol w="2541600"/>
                <a:gridCol w="488880"/>
                <a:gridCol w="592200"/>
                <a:gridCol w="885600"/>
                <a:gridCol w="635040"/>
                <a:gridCol w="865080"/>
                <a:gridCol w="1603440"/>
                <a:gridCol w="1393920"/>
              </a:tblGrid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 (g 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 (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 (g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 (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itle 1"/>
          <p:cNvSpPr/>
          <p:nvPr/>
        </p:nvSpPr>
        <p:spPr>
          <a:xfrm>
            <a:off x="30240" y="0"/>
            <a:ext cx="90756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5. Result of principal component analysis for selecting soil quality indicators under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8690040" y="34920"/>
            <a:ext cx="45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F217-EDC5-4099-A3B4-5C161F91C19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42840" y="911160"/>
          <a:ext cx="9094680" cy="5994360"/>
        </p:xfrm>
        <a:graphic>
          <a:graphicData uri="http://schemas.openxmlformats.org/drawingml/2006/table">
            <a:tbl>
              <a:tblPr/>
              <a:tblGrid>
                <a:gridCol w="2206800"/>
                <a:gridCol w="766440"/>
                <a:gridCol w="766800"/>
                <a:gridCol w="766800"/>
                <a:gridCol w="766800"/>
                <a:gridCol w="328680"/>
                <a:gridCol w="865080"/>
                <a:gridCol w="792360"/>
                <a:gridCol w="925560"/>
                <a:gridCol w="909360"/>
              </a:tblGrid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gen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nc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mulativ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genvector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.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7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4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5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itle 1"/>
          <p:cNvSpPr/>
          <p:nvPr/>
        </p:nvSpPr>
        <p:spPr>
          <a:xfrm>
            <a:off x="4680" y="1312920"/>
            <a:ext cx="88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2960" indent="-1542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able 6. SDSG effect on soil qua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4"/>
          <p:cNvSpPr/>
          <p:nvPr/>
        </p:nvSpPr>
        <p:spPr>
          <a:xfrm>
            <a:off x="8618400" y="836640"/>
            <a:ext cx="509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F229-378A-4407-9DB6-5F5FC823D562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0" y="1955880"/>
          <a:ext cx="9144000" cy="4713120"/>
        </p:xfrm>
        <a:graphic>
          <a:graphicData uri="http://schemas.openxmlformats.org/drawingml/2006/table">
            <a:tbl>
              <a:tblPr/>
              <a:tblGrid>
                <a:gridCol w="3132000"/>
                <a:gridCol w="1584360"/>
                <a:gridCol w="1368360"/>
                <a:gridCol w="1295640"/>
                <a:gridCol w="1763640"/>
              </a:tblGrid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DSG (heads h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iolog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hemic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hys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il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 se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20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5 se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itle 1"/>
          <p:cNvSpPr/>
          <p:nvPr/>
        </p:nvSpPr>
        <p:spPr>
          <a:xfrm>
            <a:off x="762120" y="1066680"/>
            <a:ext cx="76960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"/>
          <p:cNvSpPr/>
          <p:nvPr/>
        </p:nvSpPr>
        <p:spPr>
          <a:xfrm>
            <a:off x="127080" y="1936800"/>
            <a:ext cx="89294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ons and 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8732880" y="828720"/>
            <a:ext cx="32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3D49-DF97-45A8-926A-75883406BF5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itle 1"/>
          <p:cNvSpPr/>
          <p:nvPr/>
        </p:nvSpPr>
        <p:spPr>
          <a:xfrm>
            <a:off x="0" y="1300320"/>
            <a:ext cx="914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2960" indent="-1542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Table 7. Weed species count as affected by SDS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8639280" y="8240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A1A1-ACF4-4788-885B-B4F2540F2199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0" y="1874880"/>
          <a:ext cx="9180360" cy="5154480"/>
        </p:xfrm>
        <a:graphic>
          <a:graphicData uri="http://schemas.openxmlformats.org/drawingml/2006/table">
            <a:tbl>
              <a:tblPr/>
              <a:tblGrid>
                <a:gridCol w="1857240"/>
                <a:gridCol w="1017720"/>
                <a:gridCol w="941400"/>
                <a:gridCol w="1042920"/>
                <a:gridCol w="576360"/>
                <a:gridCol w="865080"/>
                <a:gridCol w="1584360"/>
                <a:gridCol w="1295280"/>
              </a:tblGrid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ed species (m-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(0.4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 (1.0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itle 1"/>
          <p:cNvSpPr/>
          <p:nvPr/>
        </p:nvSpPr>
        <p:spPr>
          <a:xfrm>
            <a:off x="44280" y="6338880"/>
            <a:ext cx="9099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Arial"/>
              </a:rPr>
              <a:t>Table 2. Maize grain yield as affected by SDSG and MP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4"/>
          <p:cNvSpPr/>
          <p:nvPr/>
        </p:nvSpPr>
        <p:spPr>
          <a:xfrm>
            <a:off x="8602560" y="0"/>
            <a:ext cx="53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13DA-F472-471D-9EA4-6D776081296C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Chart 4"/>
          <p:cNvGraphicFramePr/>
          <p:nvPr/>
        </p:nvGraphicFramePr>
        <p:xfrm>
          <a:off x="-50760" y="-50760"/>
          <a:ext cx="9194760" cy="638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3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3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itle 1"/>
          <p:cNvSpPr/>
          <p:nvPr/>
        </p:nvSpPr>
        <p:spPr>
          <a:xfrm>
            <a:off x="60480" y="6350040"/>
            <a:ext cx="9083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g. 3. Maize grain yield as affected by SDSG and N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8639280" y="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D900-7451-401E-B4D5-93A0CE21CDC0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Chart 4"/>
          <p:cNvGraphicFramePr/>
          <p:nvPr/>
        </p:nvGraphicFramePr>
        <p:xfrm>
          <a:off x="-50760" y="-50760"/>
          <a:ext cx="919476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7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itle 1"/>
          <p:cNvSpPr/>
          <p:nvPr/>
        </p:nvSpPr>
        <p:spPr>
          <a:xfrm>
            <a:off x="108000" y="6338880"/>
            <a:ext cx="903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5760" indent="-1085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Fig. 4. Farmer preference for corralling technology  at Navron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8602560" y="0"/>
            <a:ext cx="503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7AD4-11CE-404C-9D96-8DDA675FC647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Chart 4"/>
          <p:cNvGraphicFramePr/>
          <p:nvPr/>
        </p:nvGraphicFramePr>
        <p:xfrm>
          <a:off x="-50760" y="-34920"/>
          <a:ext cx="9194760" cy="637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1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34920"/>
                    <a:ext cx="919476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itle 1"/>
          <p:cNvSpPr/>
          <p:nvPr/>
        </p:nvSpPr>
        <p:spPr>
          <a:xfrm>
            <a:off x="0" y="6338880"/>
            <a:ext cx="9142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5760" indent="-1085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g. 5. Farmer preference for maize density at Navro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8672400" y="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68E0-C010-461F-BDB8-6AEBD4B5DB86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Chart 4"/>
          <p:cNvGraphicFramePr/>
          <p:nvPr/>
        </p:nvGraphicFramePr>
        <p:xfrm>
          <a:off x="-50760" y="-22320"/>
          <a:ext cx="9193320" cy="636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5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22320"/>
                    <a:ext cx="919332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itle 1"/>
          <p:cNvSpPr/>
          <p:nvPr/>
        </p:nvSpPr>
        <p:spPr>
          <a:xfrm>
            <a:off x="28440" y="6288120"/>
            <a:ext cx="909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Arial"/>
              </a:rPr>
              <a:t>Fig. 6. Farmer preference for N fertilizer rate at Navrong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8629560" y="0"/>
            <a:ext cx="514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9940-6AC3-4371-A022-521598EC88C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Chart 4"/>
          <p:cNvGraphicFramePr/>
          <p:nvPr/>
        </p:nvGraphicFramePr>
        <p:xfrm>
          <a:off x="-50760" y="-50760"/>
          <a:ext cx="9194760" cy="633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itle 1"/>
          <p:cNvSpPr/>
          <p:nvPr/>
        </p:nvSpPr>
        <p:spPr>
          <a:xfrm>
            <a:off x="22320" y="1197000"/>
            <a:ext cx="5189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22320" y="1822320"/>
            <a:ext cx="91440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mproved soil quality ind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ncreased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MPD interaction increased maize grain yield by about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NFR interaction also increased maize grain yield by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ity of farmers preferred maize performance under SDSG at 14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MPD at 100 000 plant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NFR at 9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8640720" y="79524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7582-BE8C-48BA-9693-E09C7853134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itle 1"/>
          <p:cNvSpPr/>
          <p:nvPr/>
        </p:nvSpPr>
        <p:spPr>
          <a:xfrm>
            <a:off x="0" y="1197000"/>
            <a:ext cx="4464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"/>
          <p:cNvSpPr/>
          <p:nvPr/>
        </p:nvSpPr>
        <p:spPr>
          <a:xfrm>
            <a:off x="141120" y="1803240"/>
            <a:ext cx="885852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Maize-livestock farmers with low resource endowment may also corral sheep and goat 70 or 14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aize plant density at 100 000 plant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ow number flock size can corral at 7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9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high grain yie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arge flock size can also corral at 140 herd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6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8639280" y="78588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4792-80A6-400E-8735-952F9119936E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itle 1"/>
          <p:cNvSpPr/>
          <p:nvPr/>
        </p:nvSpPr>
        <p:spPr>
          <a:xfrm>
            <a:off x="0" y="1197000"/>
            <a:ext cx="694836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Lessons and way for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"/>
          <p:cNvSpPr/>
          <p:nvPr/>
        </p:nvSpPr>
        <p:spPr>
          <a:xfrm>
            <a:off x="108000" y="2060640"/>
            <a:ext cx="885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Farmers complained about theft of anim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Quality of manure from livestock was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upplementary feeding to improve manure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How the quality manure also affects fodder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8639280" y="78588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4E18-0CED-4D5A-91E9-97912B186F0B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76320" y="3141720"/>
            <a:ext cx="8915400" cy="1295280"/>
          </a:xfrm>
          <a:prstGeom prst="rect">
            <a:avLst/>
          </a:prstGeom>
          <a:ln w="0">
            <a:noFill/>
          </a:ln>
        </p:spPr>
      </p:pic>
      <p:pic>
        <p:nvPicPr>
          <p:cNvPr id="490" name="Content Placeholder 3" descr="E:\Pictures\Knust campus\KNUST EMBLEM.png"/>
          <p:cNvPicPr/>
          <p:nvPr/>
        </p:nvPicPr>
        <p:blipFill>
          <a:blip r:embed="rId2"/>
          <a:stretch/>
        </p:blipFill>
        <p:spPr>
          <a:xfrm>
            <a:off x="4081320" y="4437000"/>
            <a:ext cx="936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590400" y="34920"/>
            <a:ext cx="82296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"/>
          <p:cNvSpPr/>
          <p:nvPr/>
        </p:nvSpPr>
        <p:spPr>
          <a:xfrm>
            <a:off x="36000" y="504720"/>
            <a:ext cx="23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0" y="1077840"/>
            <a:ext cx="914400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farming system in Africa is intensifying across various agro-ecological zon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nginga et al., 200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human and livestock growth is leading to crop-livestock intensification (Powell et al., 2004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le crops grown are mainly cereals (maize, rice, millet and sorghu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reared are mainly ruminants with poultry and lit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-gas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6265-8F2E-48D0-BEE1-0A316E4BC129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611280" y="8366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0" y="1467000"/>
            <a:ext cx="7283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Content Placeholder 2"/>
          <p:cNvSpPr/>
          <p:nvPr/>
        </p:nvSpPr>
        <p:spPr>
          <a:xfrm>
            <a:off x="1440" y="2114640"/>
            <a:ext cx="914400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p yields on farmers field are low du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atic rainf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oil fertility (Bationo et al., 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integration of crop and livestock enterprise (Tarawali et al., 199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agronomic pract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lanting den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8837640" y="770040"/>
            <a:ext cx="28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EC38-F840-4820-A020-43C5BF9B20C2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tle 1"/>
          <p:cNvSpPr/>
          <p:nvPr/>
        </p:nvSpPr>
        <p:spPr>
          <a:xfrm>
            <a:off x="466560" y="3816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"/>
          <p:cNvSpPr/>
          <p:nvPr/>
        </p:nvSpPr>
        <p:spPr>
          <a:xfrm>
            <a:off x="9360" y="371520"/>
            <a:ext cx="3816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Content Placeholder 2"/>
          <p:cNvSpPr/>
          <p:nvPr/>
        </p:nvSpPr>
        <p:spPr>
          <a:xfrm>
            <a:off x="9360" y="847800"/>
            <a:ext cx="9099720" cy="58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corralling results in high crop yields (Powell et al., 2004;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u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uah et al., 2009; Abdul Rahman et al., 2015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planting density (Conley et al., 2005; Adeniyan,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recommendation not useful in recent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ing results on effect of plant density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remains unknown on the interaction effect of these three factors on grain yield in crop-livestock system in West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8832960" y="-1440"/>
            <a:ext cx="28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188D-2636-4B2D-AFAF-0B50FC7FB74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tle 1"/>
          <p:cNvSpPr/>
          <p:nvPr/>
        </p:nvSpPr>
        <p:spPr>
          <a:xfrm>
            <a:off x="2700360" y="0"/>
            <a:ext cx="431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Content Placeholder 2"/>
          <p:cNvSpPr/>
          <p:nvPr/>
        </p:nvSpPr>
        <p:spPr>
          <a:xfrm>
            <a:off x="46080" y="620640"/>
            <a:ext cx="91314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Objecti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d the interaction effect of SDSG, MPD and NFR on yield of maize in a small-scaled crop-livestock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objectiv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effect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soil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effect of SDSG, MPD and NFR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er preference for SDSG, MPD and NFR technologies on maiz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FF52-BF77-47AB-B700-D2EC21EC95EB}" type="slidenum">
              <a:rPr b="1" lang="en-US" sz="3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itle 1"/>
          <p:cNvSpPr/>
          <p:nvPr/>
        </p:nvSpPr>
        <p:spPr>
          <a:xfrm>
            <a:off x="468360" y="-20520"/>
            <a:ext cx="8229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" descr="E:\UER. jpg"/>
          <p:cNvPicPr/>
          <p:nvPr/>
        </p:nvPicPr>
        <p:blipFill>
          <a:blip r:embed="rId1"/>
          <a:stretch/>
        </p:blipFill>
        <p:spPr>
          <a:xfrm>
            <a:off x="3708360" y="549360"/>
            <a:ext cx="5435640" cy="6308640"/>
          </a:xfrm>
          <a:prstGeom prst="rect">
            <a:avLst/>
          </a:prstGeom>
          <a:ln w="0">
            <a:noFill/>
          </a:ln>
        </p:spPr>
      </p:pic>
      <p:sp>
        <p:nvSpPr>
          <p:cNvPr id="414" name="Content Placeholder 2"/>
          <p:cNvSpPr/>
          <p:nvPr/>
        </p:nvSpPr>
        <p:spPr>
          <a:xfrm>
            <a:off x="0" y="549360"/>
            <a:ext cx="39243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Are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East (Sudan Savann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e:10̊ 30’ 11’’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itude: 0̊ 1’ 30’’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.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ax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4.3̊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in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2.3̊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annual Rainfall: 750-1204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urce: Navrongo Meteo. Depar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871120" y="17640"/>
            <a:ext cx="2664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B208-EEE8-4397-B4E9-876467722E7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itle 1"/>
          <p:cNvSpPr/>
          <p:nvPr/>
        </p:nvSpPr>
        <p:spPr>
          <a:xfrm>
            <a:off x="76212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Content Placeholder 2"/>
          <p:cNvSpPr/>
          <p:nvPr/>
        </p:nvSpPr>
        <p:spPr>
          <a:xfrm>
            <a:off x="54000" y="1441440"/>
            <a:ext cx="90709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perimental Desig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it-split plot with 8 re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4"/>
          <p:cNvSpPr/>
          <p:nvPr/>
        </p:nvSpPr>
        <p:spPr>
          <a:xfrm>
            <a:off x="8908920" y="76500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944A-54B7-49C0-89E3-F7E60C0A5625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30240" y="2565360"/>
            <a:ext cx="912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in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ing density of sheep and goat corralling(SDSG) (0, 70, 140 head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lant density (MPD)                                   (66 667, 100 000, 133 333 plant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-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rate (NFR)                                      (0-40-40, 60-40-40, 90-40-40 kg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itle 1"/>
          <p:cNvSpPr/>
          <p:nvPr/>
        </p:nvSpPr>
        <p:spPr>
          <a:xfrm>
            <a:off x="0" y="638172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1: Stocking density of sheep and goat corralling (SDSG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4"/>
          <p:cNvSpPr/>
          <p:nvPr/>
        </p:nvSpPr>
        <p:spPr>
          <a:xfrm>
            <a:off x="8897760" y="638172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E145-C306-4B5D-B0A6-C48F04867A10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1"/>
          <a:stretch/>
        </p:blipFill>
        <p:spPr>
          <a:xfrm>
            <a:off x="-9360" y="-476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Odhong</cp:lastModifiedBy>
  <cp:lastPrinted>2015-09-01T11:16:39Z</cp:lastPrinted>
  <dcterms:modified xsi:type="dcterms:W3CDTF">2016-12-22T10:52:12Z</dcterms:modified>
  <cp:revision>973</cp:revision>
  <dc:subject/>
  <dc:title>Diapositiva 1</dc:title>
</cp:coreProperties>
</file>